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1.wmf" ContentType="image/x-wmf"/>
  <Override PartName="/ppt/media/image10.png" ContentType="image/png"/>
  <Override PartName="/ppt/media/image13.wmf" ContentType="image/x-wmf"/>
  <Override PartName="/ppt/media/image8.jpeg" ContentType="image/jpeg"/>
  <Override PartName="/ppt/media/image9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23.png" ContentType="image/png"/>
  <Override PartName="/ppt/media/image2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18.wmf" ContentType="image/x-wmf"/>
  <Override PartName="/ppt/media/image5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C459-0022-490C-BC26-DC5DDC46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77F5-DCFE-4582-8E0F-6AB086CF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0E16-42BE-48C4-BD4D-1955F8F8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2F0-BA89-440B-97B1-5A021E16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D8E3-A00E-4D3A-AE53-6331E075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13CB-D1DD-4F77-BE15-CDC9BBFA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0276-D9C9-4F3D-8AA6-103EFA24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A65B-7BBA-44C0-857E-0CAE1353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66DB-F338-4AB5-BD04-5DC8702B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4F30-9B87-4CB2-BAAC-86220418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7144-8681-41C5-BD06-F098980B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42D9-A033-4363-AFAE-4067D708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9F88-6F9D-486D-BC20-9C69C4EE1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images.google.ca/imgres?imgurl=http://blogs.warwick.ac.uk/images/flingard/2004/11/08/carbon_dating.jpg&amp;imgrefurl=http://blogs.warwick.ac.uk/flingard/gallerydetail/other/%3FimageNum%3D1&amp;h=195&amp;w=244&amp;sz=9&amp;tbnid=8MitVMIUmmAG6M:&amp;tbnh=83&amp;tbnw=105&amp;hl=en&amp;start=18&amp;prev=/images%3Fq%3Dcarbon%2Bdating%26svnum%3D10%26hl%3Den%26lr%3D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images.google.ca/imgres?imgurl=http://www.johnharveyphoto.com/RoadTrip/NuclearReactor.jpg&amp;imgrefurl=http://www.johnharveyphoto.com/RoadTrip/NuclearReactor.html&amp;h=802&amp;w=800&amp;sz=92&amp;tbnid=GNd_wbTBaUC5lM:&amp;tbnh=142&amp;tbnw=141&amp;hl=en&amp;start=4&amp;prev=/images%3Fq%3Dnuclear%2Breactor%26svnum%3D10%26hl%3Den%26lr%3D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google.ca/imgres?imgurl=http://www.akronmarbles.com/marble-frag-2.jpg&amp;imgrefurl=http://www.akronmarbles.com/american_marble_and_toy_manufacturing_co.htm&amp;h=226&amp;w=216&amp;sz=14&amp;tbnid=tlZVgzd-V8GAaM:&amp;tbnh=103&amp;tbnw=98&amp;hl=en&amp;start=31&amp;prev=/images%3Fq%3Dmarble%2Btoy%26start%3D20%26svnum%3D10%26hl%3Den%26lr%3D%26sa%3DN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batomic Particles, Atomic Number and Atomic M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676520"/>
            <a:ext cx="76960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neutral atom of an element has 78 electrons and 117 neutrons what is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rot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images" descr=""/>
          <p:cNvPicPr/>
          <p:nvPr/>
        </p:nvPicPr>
        <p:blipFill>
          <a:blip r:embed="rId1"/>
          <a:stretch/>
        </p:blipFill>
        <p:spPr>
          <a:xfrm>
            <a:off x="5715000" y="35053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44" name="images" descr=""/>
          <p:cNvPicPr/>
          <p:nvPr/>
        </p:nvPicPr>
        <p:blipFill>
          <a:blip r:embed="rId2"/>
          <a:stretch/>
        </p:blipFill>
        <p:spPr>
          <a:xfrm>
            <a:off x="7315200" y="2286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929920" y="6643800"/>
            <a:ext cx="321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www.radiochemistry.org/periodictable/elements/images/78.gi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31040" y="6400800"/>
            <a:ext cx="361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www.findajeweler.com/fashion_trends/2004/July/images/pt_sample.gi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support" descr=""/>
          <p:cNvPicPr/>
          <p:nvPr/>
        </p:nvPicPr>
        <p:blipFill>
          <a:blip r:embed="rId1"/>
          <a:stretch/>
        </p:blipFill>
        <p:spPr>
          <a:xfrm>
            <a:off x="1981080" y="1638360"/>
            <a:ext cx="5715000" cy="4172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960520" y="6643800"/>
            <a:ext cx="318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discover.edventures.com/images/termlib/i/isotope/support.gi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2-He-4-labeled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191280" cy="16970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439680" y="0"/>
            <a:ext cx="270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4479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114800" y="2209680"/>
            <a:ext cx="3124080" cy="2972880"/>
            <a:chOff x="4114800" y="2209680"/>
            <a:chExt cx="3124080" cy="2972880"/>
          </a:xfrm>
        </p:grpSpPr>
        <p:sp>
          <p:nvSpPr>
            <p:cNvPr id="153" name=""/>
            <p:cNvSpPr/>
            <p:nvPr/>
          </p:nvSpPr>
          <p:spPr>
            <a:xfrm>
              <a:off x="5332680" y="2209680"/>
              <a:ext cx="1786680" cy="29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91120" y="2270160"/>
              <a:ext cx="121824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M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91120" y="3960720"/>
              <a:ext cx="1218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Atom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14800" y="2286000"/>
              <a:ext cx="312408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983240" y="3962520"/>
            <a:ext cx="2360160" cy="457200"/>
            <a:chOff x="1983240" y="3962520"/>
            <a:chExt cx="2360160" cy="457200"/>
          </a:xfrm>
        </p:grpSpPr>
        <p:sp>
          <p:nvSpPr>
            <p:cNvPr id="158" name=""/>
            <p:cNvSpPr/>
            <p:nvPr/>
          </p:nvSpPr>
          <p:spPr>
            <a:xfrm>
              <a:off x="3124080" y="4267440"/>
              <a:ext cx="1219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83240" y="3962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# prot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601280" y="2589120"/>
            <a:ext cx="2742120" cy="916920"/>
            <a:chOff x="1601280" y="2589120"/>
            <a:chExt cx="2742120" cy="916920"/>
          </a:xfrm>
        </p:grpSpPr>
        <p:sp>
          <p:nvSpPr>
            <p:cNvPr id="161" name=""/>
            <p:cNvSpPr/>
            <p:nvPr/>
          </p:nvSpPr>
          <p:spPr>
            <a:xfrm flipV="1">
              <a:off x="3429000" y="2817360"/>
              <a:ext cx="914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01280" y="2589120"/>
              <a:ext cx="1648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# proton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+    # neutr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ss 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00400" y="2665080"/>
              <a:ext cx="152640" cy="5335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439680" y="0"/>
            <a:ext cx="270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094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sot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of the same element can have different numbers of neu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gives them different mass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the same atomic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look, act and react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2640" y="5181480"/>
            <a:ext cx="41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-12        vs.       C-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0" y="166680"/>
          <a:ext cx="8915400" cy="6686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6680"/>
                    <a:ext cx="8915400" cy="66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094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Naming Isot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 mass number after the name of the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-12 and Carbon-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anium-235 and Uranium-23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-468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46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0" y="-468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46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support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715000" cy="41720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523880" y="5638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ich isotopes are represented in this sket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60520" y="6635880"/>
            <a:ext cx="318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discover.edventures.com/images/termlib/i/isotope/support.gi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752480"/>
            <a:ext cx="7772400" cy="4038840"/>
          </a:xfrm>
          <a:prstGeom prst="rect">
            <a:avLst/>
          </a:prstGeom>
          <a:solidFill>
            <a:srgbClr val="ffff99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46160" y="792000"/>
            <a:ext cx="7340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ubatomic p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2240" y="3100320"/>
            <a:ext cx="1617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2240" y="4014720"/>
            <a:ext cx="1314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2240" y="4890960"/>
            <a:ext cx="157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2240" y="2414520"/>
            <a:ext cx="1197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93840" y="2414520"/>
            <a:ext cx="150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41760" y="2414520"/>
            <a:ext cx="140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6120" y="2073240"/>
            <a:ext cx="159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27960" y="1951200"/>
            <a:ext cx="17539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 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78040" y="3100320"/>
            <a:ext cx="496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08200" y="4014720"/>
            <a:ext cx="6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38440" y="4890960"/>
            <a:ext cx="5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59360" y="3100320"/>
            <a:ext cx="54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11480" y="4014720"/>
            <a:ext cx="6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25960" y="4890960"/>
            <a:ext cx="401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75200" y="3100320"/>
            <a:ext cx="1360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18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37080" y="4014720"/>
            <a:ext cx="40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37080" y="4890960"/>
            <a:ext cx="40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46800" y="3100320"/>
            <a:ext cx="224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46800" y="4014720"/>
            <a:ext cx="224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67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46800" y="4890960"/>
            <a:ext cx="224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67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89548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2080" y="6643800"/>
            <a:ext cx="22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d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lculations of 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verage Atomic M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y is the mass number on a periodic table never a nice whole numb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cc"/>
                </a:solidFill>
                <a:latin typeface="Times New Roman"/>
              </a:rPr>
              <a:t>Mass Number vs </a:t>
            </a:r>
            <a:br>
              <a:rPr sz="4000"/>
            </a:br>
            <a:r>
              <a:rPr b="0" lang="en-CA" sz="4000" spc="-1" strike="noStrike">
                <a:solidFill>
                  <a:srgbClr val="3333cc"/>
                </a:solidFill>
                <a:latin typeface="Times New Roman"/>
              </a:rPr>
              <a:t>AverageAtomic M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 Mass Number is specific to one isoto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 Average Atomic Mass is the calculated based on the abundance of each naturally occurring isotope of that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 Average Atomic Mass is shown on Periodic Tables.  It is the most accurate number that should be used in calcul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6094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verage Atomic M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eavy is an atom of oxyg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different kinds of oxygen a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-16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-17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-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more concerned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 mass, based on the abundance of each element in n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on’t use grams because the numbers would be too sm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040" y="6567480"/>
            <a:ext cx="87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ifornia WE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39680" y="6613560"/>
            <a:ext cx="270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609480"/>
            <a:ext cx="77724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tomic Mass Uni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(amu or u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unit is used instead of gr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1/12 of the mass of a carbon-12 ato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39680" y="0"/>
            <a:ext cx="270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6094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alculating aver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1600200"/>
            <a:ext cx="8381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five rocks, four with a mass of 50 g, and one with a mass of 60 g. What is the average mass of the roc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040" y="6567480"/>
            <a:ext cx="87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ifornia WE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39680" y="6613560"/>
            <a:ext cx="270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62120" y="99072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alculating aver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838080"/>
            <a:ext cx="8381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mass =     (4 x 50) + (1 x 60) = 260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mass = (4 x 50) + (1 x 60) = 260 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mass = 4 x 50 + 1 x 60 = 260 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52680" y="3581280"/>
            <a:ext cx="289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53080" y="35812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4876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80" y="5958000"/>
            <a:ext cx="87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ifornia WE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24280" y="4876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4876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39680" y="6613560"/>
            <a:ext cx="270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80880" y="129528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mass = (4/5)50 + (1/5)60 = 260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8720" y="2438280"/>
            <a:ext cx="775656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mass = (0.8)50 + (0.2)60 = 260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% of the rocks weigh 50 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of the rocks weigh 60 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541008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cc"/>
                </a:solidFill>
                <a:latin typeface="Arial"/>
              </a:rPr>
              <a:t>We calculate atomic mass the same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39680" y="6613560"/>
            <a:ext cx="270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094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ample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1523880"/>
            <a:ext cx="85341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average atomic mass of copper if copper has two isotopes.  69.1% has a mass of 62.93 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rest has a mass of 64.93 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040" y="6567480"/>
            <a:ext cx="87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ifornia WE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39680" y="6613560"/>
            <a:ext cx="270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verage Atomic M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1143000"/>
            <a:ext cx="883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average atomic mass of copper if copper has two isotopes.  69.1% has a mass of 62.93 u and the rest has a mass of 64.93 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80880" y="4419720"/>
                <a:ext cx="833148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 atomic mas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AM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% 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/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ss 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/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% 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/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ss 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/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274760" y="5167440"/>
                <a:ext cx="45370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 u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9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 u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4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8463 u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337 u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8 u for Copp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5" name=""/>
          <p:cNvGrpSpPr/>
          <p:nvPr/>
        </p:nvGrpSpPr>
        <p:grpSpPr>
          <a:xfrm>
            <a:off x="6705720" y="4952880"/>
            <a:ext cx="1828800" cy="1676520"/>
            <a:chOff x="6705720" y="4952880"/>
            <a:chExt cx="1828800" cy="1676520"/>
          </a:xfrm>
        </p:grpSpPr>
        <p:sp>
          <p:nvSpPr>
            <p:cNvPr id="216" name=""/>
            <p:cNvSpPr/>
            <p:nvPr/>
          </p:nvSpPr>
          <p:spPr>
            <a:xfrm>
              <a:off x="6705720" y="4952880"/>
              <a:ext cx="182880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36120" y="5181480"/>
              <a:ext cx="1252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27200" y="50292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87320" y="61722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63.5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0" name=""/>
          <p:cNvGraphicFramePr/>
          <p:nvPr/>
        </p:nvGraphicFramePr>
        <p:xfrm>
          <a:off x="3505320" y="2057400"/>
          <a:ext cx="5181120" cy="2209320"/>
        </p:xfrm>
        <a:graphic>
          <a:graphicData uri="http://schemas.openxmlformats.org/drawingml/2006/table">
            <a:tbl>
              <a:tblPr/>
              <a:tblGrid>
                <a:gridCol w="1036440"/>
                <a:gridCol w="1695600"/>
                <a:gridCol w="1036080"/>
                <a:gridCol w="141300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ot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c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und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-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43.484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-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0.063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3.548 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6439680" y="0"/>
            <a:ext cx="270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adioisot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094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tructure of the At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reg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rotons and neu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the 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clo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he volume of an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gion where the electron can be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Bohr model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733920" cy="2882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439680" y="6613560"/>
            <a:ext cx="270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cc"/>
                </a:solidFill>
                <a:latin typeface="Times New Roman"/>
              </a:rPr>
              <a:t>Radioactive: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pable of spontaneously emitting radiation in the form of particles and/or gamma 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cc"/>
                </a:solidFill>
                <a:latin typeface="Times New Roman"/>
              </a:rPr>
              <a:t>Radioisotop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 radioactive isotope of an element that occurs naturally or is produced artifici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Times New Roman"/>
              </a:rPr>
              <a:t>Radioisot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elements have one or more isotopes that are unstabl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toms of unstable isotopes decay, emitting radiation as their nucleus chan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 changes can happen quickly or slowly, depending on the isoto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adiation emitted can be harmless or very dangerous to living ce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Times New Roman"/>
              </a:rPr>
              <a:t>Applications of Nuclear Sci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400440" y="3504960"/>
            <a:ext cx="2057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adiolo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5053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thropolo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0400" y="5943600"/>
            <a:ext cx="3124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uclear React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images" descr=""/>
          <p:cNvPicPr/>
          <p:nvPr/>
        </p:nvPicPr>
        <p:blipFill>
          <a:blip r:embed="rId1"/>
          <a:stretch/>
        </p:blipFill>
        <p:spPr>
          <a:xfrm>
            <a:off x="6248520" y="1752480"/>
            <a:ext cx="2297160" cy="1650960"/>
          </a:xfrm>
          <a:prstGeom prst="rect">
            <a:avLst/>
          </a:prstGeom>
          <a:ln w="0">
            <a:noFill/>
          </a:ln>
        </p:spPr>
      </p:pic>
      <p:pic>
        <p:nvPicPr>
          <p:cNvPr id="231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19320" y="2209680"/>
            <a:ext cx="1752480" cy="1386000"/>
          </a:xfrm>
          <a:prstGeom prst="rect">
            <a:avLst/>
          </a:prstGeom>
          <a:ln w="0">
            <a:noFill/>
          </a:ln>
        </p:spPr>
      </p:pic>
      <p:pic>
        <p:nvPicPr>
          <p:cNvPr id="232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33920" y="3657600"/>
            <a:ext cx="2270160" cy="2286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-87480" y="6713640"/>
            <a:ext cx="3445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blogs.warwick.ac.uk/images/flingard/2004/11/08/carbon_dating.j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08560" y="6643800"/>
            <a:ext cx="300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www.johnharveyphoto.com/RoadTrip/NuclearReactor.j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41200" y="6713640"/>
            <a:ext cx="33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mednews.stanford.edu/story_images/radiology-xray-051805.j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2222640" y="-22320"/>
            <a:ext cx="4572000" cy="6811920"/>
            <a:chOff x="2222640" y="-22320"/>
            <a:chExt cx="4572000" cy="6811920"/>
          </a:xfrm>
        </p:grpSpPr>
        <p:sp>
          <p:nvSpPr>
            <p:cNvPr id="237" name=""/>
            <p:cNvSpPr/>
            <p:nvPr/>
          </p:nvSpPr>
          <p:spPr>
            <a:xfrm>
              <a:off x="2222640" y="-22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22640" y="-22320"/>
              <a:ext cx="4572000" cy="681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4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9" name="carbon-14" descr=""/>
          <p:cNvPicPr/>
          <p:nvPr/>
        </p:nvPicPr>
        <p:blipFill>
          <a:blip r:embed="rId1"/>
          <a:stretch/>
        </p:blipFill>
        <p:spPr>
          <a:xfrm>
            <a:off x="2349360" y="2376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806520" y="6643800"/>
            <a:ext cx="233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static.howstuffworks.com/gif/carbon-14.gi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-468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46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622840" y="66880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04640" y="6643800"/>
            <a:ext cx="22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sotope Exercise” work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ad pages 34-35 of your text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epare a concept map of the key issues related to nuclear power and nuclear wa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Times New Roman"/>
              </a:rPr>
              <a:t>Concept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ains key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hows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nefi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elps you organize your thou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reases understanding and retention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reat study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s3" descr="Image of a concept map with six nodes that are connected.  Please have someone assist you with this."/>
          <p:cNvPicPr/>
          <p:nvPr/>
        </p:nvPicPr>
        <p:blipFill>
          <a:blip r:embed="rId1"/>
          <a:stretch/>
        </p:blipFill>
        <p:spPr>
          <a:xfrm>
            <a:off x="533520" y="1195560"/>
            <a:ext cx="8153280" cy="44290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780960" y="6643800"/>
            <a:ext cx="21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www.cotf.edu/ete/images/misc/ps1.gi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7400" y="6643800"/>
            <a:ext cx="4322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upload.wikimedia.org/wikipedia/en/thumb/3/3a/Conceptmap.gif/450px-Conceptmap.gi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450px-Conceptmap" descr="Example concept map, created using IHMC CmapTools."/>
          <p:cNvPicPr/>
          <p:nvPr/>
        </p:nvPicPr>
        <p:blipFill>
          <a:blip r:embed="rId2"/>
          <a:stretch/>
        </p:blipFill>
        <p:spPr>
          <a:xfrm>
            <a:off x="0" y="463680"/>
            <a:ext cx="88390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Concept-Map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450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907240" y="6643800"/>
            <a:ext cx="3234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library.humboldt.edu/infoservices/Comm280/Concept-Map.j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giant%20stadium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4854600"/>
          </a:xfrm>
          <a:prstGeom prst="rect">
            <a:avLst/>
          </a:prstGeom>
          <a:ln w="0">
            <a:noFill/>
          </a:ln>
        </p:spPr>
      </p:pic>
      <p:pic>
        <p:nvPicPr>
          <p:cNvPr id="71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579240" cy="609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5181480"/>
            <a:ext cx="66294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f the atom was the size of a stadiu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nucleus would be the size of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3840" y="5867280"/>
            <a:ext cx="212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 mar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81120" y="0"/>
            <a:ext cx="395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www.andrew.cmu.edu/user/jgrao/Manchester%20United/giant%20stadium.j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13000" y="6643800"/>
            <a:ext cx="232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www.akronmarbles.com/marble-frag-2.j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concept-map-1" descr=""/>
          <p:cNvPicPr/>
          <p:nvPr/>
        </p:nvPicPr>
        <p:blipFill>
          <a:blip r:embed="rId1"/>
          <a:stretch/>
        </p:blipFill>
        <p:spPr>
          <a:xfrm>
            <a:off x="1887480" y="0"/>
            <a:ext cx="537228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611320" y="6643800"/>
            <a:ext cx="353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www.accessexcellence.org/AE/AEPC/WWC/1995/concept-map-1.gi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Times New Roman"/>
              </a:rPr>
              <a:t>Final Not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You concept map is an INDIVIDUAL activity.  Each map should be original and significantly different from all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ersonalize it the way that you want.  Your map will be your reference no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lease do not computerize your map.  This is too time consuming without the right softwa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985040" y="3124080"/>
            <a:ext cx="47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24040" y="249876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0000"/>
                </a:solidFill>
                <a:uFillTx/>
                <a:latin typeface="Arial"/>
              </a:rPr>
              <a:t>Main Source for Slid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094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 the symbol of the element, the mass number and the atomic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038480" y="3200400"/>
            <a:ext cx="3124080" cy="2972880"/>
            <a:chOff x="4038480" y="3200400"/>
            <a:chExt cx="3124080" cy="2972880"/>
          </a:xfrm>
        </p:grpSpPr>
        <p:sp>
          <p:nvSpPr>
            <p:cNvPr id="79" name=""/>
            <p:cNvSpPr/>
            <p:nvPr/>
          </p:nvSpPr>
          <p:spPr>
            <a:xfrm>
              <a:off x="5256360" y="3200400"/>
              <a:ext cx="1786680" cy="29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14800" y="3260880"/>
              <a:ext cx="121824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M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4951440"/>
              <a:ext cx="1218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Atom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38480" y="3276720"/>
              <a:ext cx="312408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907280" y="4952880"/>
            <a:ext cx="2359440" cy="457200"/>
            <a:chOff x="1907280" y="4952880"/>
            <a:chExt cx="2359440" cy="457200"/>
          </a:xfrm>
        </p:grpSpPr>
        <p:sp>
          <p:nvSpPr>
            <p:cNvPr id="84" name=""/>
            <p:cNvSpPr/>
            <p:nvPr/>
          </p:nvSpPr>
          <p:spPr>
            <a:xfrm>
              <a:off x="3047760" y="5257800"/>
              <a:ext cx="1218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07280" y="495288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# prot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524960" y="3579840"/>
            <a:ext cx="2742120" cy="916920"/>
            <a:chOff x="1524960" y="3579840"/>
            <a:chExt cx="2742120" cy="916920"/>
          </a:xfrm>
        </p:grpSpPr>
        <p:sp>
          <p:nvSpPr>
            <p:cNvPr id="87" name=""/>
            <p:cNvSpPr/>
            <p:nvPr/>
          </p:nvSpPr>
          <p:spPr>
            <a:xfrm flipV="1">
              <a:off x="3352680" y="3808080"/>
              <a:ext cx="914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24960" y="3579840"/>
              <a:ext cx="1648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# proton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+    # neutr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ss 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24080" y="3655800"/>
              <a:ext cx="152640" cy="5335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439680" y="6613560"/>
            <a:ext cx="270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pr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neu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400800" y="3017880"/>
            <a:ext cx="1523160" cy="1555560"/>
            <a:chOff x="6400800" y="3017880"/>
            <a:chExt cx="1523160" cy="1555560"/>
          </a:xfrm>
        </p:grpSpPr>
        <p:sp>
          <p:nvSpPr>
            <p:cNvPr id="94" name=""/>
            <p:cNvSpPr/>
            <p:nvPr/>
          </p:nvSpPr>
          <p:spPr>
            <a:xfrm>
              <a:off x="6993720" y="3017880"/>
              <a:ext cx="93024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00800" y="3108240"/>
              <a:ext cx="9144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Arial"/>
                </a:rPr>
                <a:t>1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00800" y="3794040"/>
              <a:ext cx="9144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4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248520" y="2971800"/>
            <a:ext cx="18288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66600" y="259092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25720" y="31240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95200" y="365760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9560" y="419112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1160" y="46483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166720" y="2590920"/>
            <a:ext cx="1310400" cy="990360"/>
            <a:chOff x="5166720" y="2590920"/>
            <a:chExt cx="1310400" cy="990360"/>
          </a:xfrm>
        </p:grpSpPr>
        <p:grpSp>
          <p:nvGrpSpPr>
            <p:cNvPr id="104" name=""/>
            <p:cNvGrpSpPr/>
            <p:nvPr/>
          </p:nvGrpSpPr>
          <p:grpSpPr>
            <a:xfrm>
              <a:off x="5334120" y="2590920"/>
              <a:ext cx="1143000" cy="990360"/>
              <a:chOff x="5334120" y="2590920"/>
              <a:chExt cx="1143000" cy="990360"/>
            </a:xfrm>
          </p:grpSpPr>
          <p:sp>
            <p:nvSpPr>
              <p:cNvPr id="105" name=""/>
              <p:cNvSpPr/>
              <p:nvPr/>
            </p:nvSpPr>
            <p:spPr>
              <a:xfrm>
                <a:off x="5334120" y="2590920"/>
                <a:ext cx="380880" cy="990360"/>
              </a:xfrm>
              <a:custGeom>
                <a:avLst/>
                <a:gdLst>
                  <a:gd name="textAreaLeft" fmla="*/ 0 w 380880"/>
                  <a:gd name="textAreaRight" fmla="*/ 137520 w 380880"/>
                  <a:gd name="textAreaTop" fmla="*/ 25560 h 990360"/>
                  <a:gd name="textAreaBottom" fmla="*/ 964800 h 99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867280" y="3124080"/>
                <a:ext cx="60984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5166720" y="2627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439680" y="6613560"/>
            <a:ext cx="270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9080" y="0"/>
            <a:ext cx="273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chemistry.beloit.edu/Stars/EMSpectrum/fluorine.gi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fluorine" descr=""/>
          <p:cNvPicPr/>
          <p:nvPr/>
        </p:nvPicPr>
        <p:blipFill>
          <a:blip r:embed="rId1"/>
          <a:stretch/>
        </p:blipFill>
        <p:spPr>
          <a:xfrm>
            <a:off x="6400800" y="45720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90512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pr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neu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324480" y="3733920"/>
            <a:ext cx="2286000" cy="1676160"/>
            <a:chOff x="6324480" y="3733920"/>
            <a:chExt cx="2286000" cy="1676160"/>
          </a:xfrm>
        </p:grpSpPr>
        <p:sp>
          <p:nvSpPr>
            <p:cNvPr id="114" name=""/>
            <p:cNvSpPr/>
            <p:nvPr/>
          </p:nvSpPr>
          <p:spPr>
            <a:xfrm>
              <a:off x="7070040" y="3779640"/>
              <a:ext cx="140436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76760" y="3870000"/>
              <a:ext cx="9144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Arial"/>
                </a:rPr>
                <a:t>8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76760" y="4555800"/>
              <a:ext cx="9144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Arial"/>
                </a:rPr>
                <a:t>3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24480" y="3733920"/>
              <a:ext cx="2286000" cy="167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566960" y="251460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78280" y="297180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54600" y="35053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92480" y="40384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63880" y="457200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images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1350720" cy="2610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439680" y="6613560"/>
            <a:ext cx="270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094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pr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neu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36880" y="3017880"/>
            <a:ext cx="17442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310824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379404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2971800"/>
            <a:ext cx="28954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24680" y="3124080"/>
            <a:ext cx="914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69840" y="487692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66960" y="25909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5720" y="31240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95560" y="365760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9920" y="41911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1160" y="46483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39680" y="6613560"/>
            <a:ext cx="270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Na" descr=""/>
          <p:cNvPicPr/>
          <p:nvPr/>
        </p:nvPicPr>
        <p:blipFill>
          <a:blip r:embed="rId1"/>
          <a:stretch/>
        </p:blipFill>
        <p:spPr>
          <a:xfrm>
            <a:off x="533520" y="268200"/>
            <a:ext cx="8001000" cy="6383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244120" y="84240"/>
            <a:ext cx="374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www.webelements.com/webelements/elements/media/nearingzero/Na.gi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2T21:33:50Z</dcterms:created>
  <dc:creator>Jeff  Christopherson</dc:creator>
  <dc:description/>
  <dc:language>en-US</dc:language>
  <cp:lastModifiedBy>Darren Gallacher</cp:lastModifiedBy>
  <dcterms:modified xsi:type="dcterms:W3CDTF">2006-04-16T19:14:45Z</dcterms:modified>
  <cp:revision>380</cp:revision>
  <dc:subject>Chemsitry</dc:subject>
  <dc:title>Atomic Structure</dc:title>
</cp:coreProperties>
</file>